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6DC1-F782-48B9-8D9E-D73A7CAAF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D533-3358-4FC4-9A7E-FDC98976CB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F80-8018-4FBC-8917-16E2CEBD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679-5A29-4997-BE09-A6730FD3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876-E5F3-43F0-8387-535B11EB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FF8-E054-473E-BA76-F4AE5B8D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251-9F6B-41FE-863D-D81A7BC8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FBE-F2BE-46AB-8329-8E7F86D3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58C-F199-45AF-8929-37E89DDA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C44-76C9-4323-8117-4E4231F9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742-48FA-4A0C-9CDC-E602D3CC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3F8-B0B7-4CA9-8D91-4590247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A3F0-464C-4835-9F13-569748E2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C00-21CD-4B3D-9548-A1E31D7A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356E-7A11-4433-9A52-E771F07696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хема 3" descr=""/>
          <p:cNvPicPr/>
          <p:nvPr/>
        </p:nvPicPr>
        <p:blipFill>
          <a:blip r:embed="rId1"/>
          <a:stretch/>
        </p:blipFill>
        <p:spPr>
          <a:xfrm>
            <a:off x="487440" y="622440"/>
            <a:ext cx="8454960" cy="6229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2"/>
          <p:cNvSpPr/>
          <p:nvPr/>
        </p:nvSpPr>
        <p:spPr>
          <a:xfrm>
            <a:off x="395280" y="189000"/>
            <a:ext cx="813744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entury Schoolbook"/>
              </a:rPr>
              <a:t>ЗНО - 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хема 3" descr=""/>
          <p:cNvPicPr/>
          <p:nvPr/>
        </p:nvPicPr>
        <p:blipFill>
          <a:blip r:embed="rId1"/>
          <a:stretch/>
        </p:blipFill>
        <p:spPr>
          <a:xfrm>
            <a:off x="-517680" y="152280"/>
            <a:ext cx="9850680" cy="6705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5"/>
          <p:cNvSpPr/>
          <p:nvPr/>
        </p:nvSpPr>
        <p:spPr>
          <a:xfrm flipH="1">
            <a:off x="6877080" y="1989000"/>
            <a:ext cx="1992240" cy="1252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>
            <a:off x="6881760" y="2205000"/>
            <a:ext cx="2262240" cy="1325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"/>
          <p:cNvGrpSpPr/>
          <p:nvPr/>
        </p:nvGrpSpPr>
        <p:grpSpPr>
          <a:xfrm>
            <a:off x="401760" y="1557360"/>
            <a:ext cx="8742240" cy="4680000"/>
            <a:chOff x="401760" y="1557360"/>
            <a:chExt cx="8742240" cy="4680000"/>
          </a:xfrm>
        </p:grpSpPr>
        <p:grpSp>
          <p:nvGrpSpPr>
            <p:cNvPr id="54" name="Фигура, имеющая форму буквы L 13"/>
            <p:cNvGrpSpPr/>
            <p:nvPr/>
          </p:nvGrpSpPr>
          <p:grpSpPr>
            <a:xfrm>
              <a:off x="401760" y="2656080"/>
              <a:ext cx="4211640" cy="2511720"/>
              <a:chOff x="401760" y="2656080"/>
              <a:chExt cx="4211640" cy="2511720"/>
            </a:xfrm>
          </p:grpSpPr>
          <p:pic>
            <p:nvPicPr>
              <p:cNvPr id="55" name="Фигура, имеющая форму буквы L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01760" y="2656080"/>
                <a:ext cx="4211640" cy="25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5400000">
                <a:off x="2315160" y="837000"/>
                <a:ext cx="385200" cy="40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Полилиния 14"/>
            <p:cNvSpPr/>
            <p:nvPr/>
          </p:nvSpPr>
          <p:spPr>
            <a:xfrm>
              <a:off x="866880" y="3086640"/>
              <a:ext cx="369756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Колегія Міністерства освіти і науки України ухвалила провести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пробаційне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ворівневих (рівень В1 і рівень В2)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Равнобедренный треугольник 15"/>
            <p:cNvGrpSpPr/>
            <p:nvPr/>
          </p:nvGrpSpPr>
          <p:grpSpPr>
            <a:xfrm>
              <a:off x="3795120" y="1557360"/>
              <a:ext cx="830160" cy="808920"/>
              <a:chOff x="3795120" y="1557360"/>
              <a:chExt cx="830160" cy="808920"/>
            </a:xfrm>
          </p:grpSpPr>
          <p:pic>
            <p:nvPicPr>
              <p:cNvPr id="59" name="Равнобедренный треугольник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3795120" y="1557360"/>
                <a:ext cx="830160" cy="80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4215240" y="1942920"/>
                <a:ext cx="34920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Фигура, имеющая форму буквы L 16"/>
            <p:cNvGrpSpPr/>
            <p:nvPr/>
          </p:nvGrpSpPr>
          <p:grpSpPr>
            <a:xfrm>
              <a:off x="4926240" y="1563120"/>
              <a:ext cx="4217760" cy="2517480"/>
              <a:chOff x="4926240" y="1563120"/>
              <a:chExt cx="4217760" cy="2517480"/>
            </a:xfrm>
          </p:grpSpPr>
          <p:pic>
            <p:nvPicPr>
              <p:cNvPr id="62" name="Фигура, имеющая форму буквы L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4926240" y="1563120"/>
                <a:ext cx="4217760" cy="25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5400000">
                <a:off x="6841440" y="-253440"/>
                <a:ext cx="385200" cy="40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Полилиния 17"/>
            <p:cNvSpPr/>
            <p:nvPr/>
          </p:nvSpPr>
          <p:spPr>
            <a:xfrm>
              <a:off x="5393520" y="1996920"/>
              <a:ext cx="3696120" cy="315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провадження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НО з іноземних мов з використанням дворівневих предметних тестів та аудіюванн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6"/>
          <p:cNvSpPr/>
          <p:nvPr/>
        </p:nvSpPr>
        <p:spPr>
          <a:xfrm>
            <a:off x="0" y="530064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іст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стів визначено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ми ЗНО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англійської, іспанської, німецької та французької мов, затвердженим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ом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іністерства освіти і науки України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03 лютого 2016 року № 77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 затвердження програм зовнішнього незалежного оцінювання для осіб, які бажають здобувати вищу освіту на основі повної загальної середньої освіт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2"/>
          <p:cNvSpPr/>
          <p:nvPr/>
        </p:nvSpPr>
        <p:spPr>
          <a:xfrm>
            <a:off x="255600" y="349200"/>
            <a:ext cx="8277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Century Schoolbook"/>
              </a:rPr>
              <a:t>ЗНО з іноземних 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6-09-26T06:10:03Z</dcterms:modified>
  <cp:revision>748</cp:revision>
  <dc:subject/>
  <dc:title>Diapositiva 1</dc:title>
</cp:coreProperties>
</file>